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suction.wav" ContentType="audio/x-wav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E9D-1C04-4ACA-B812-6B64366F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22FA-BFFD-4EE6-BC85-90330CFE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7B1-5E98-42E8-B3DE-AC6D4A3F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943-E31C-4BB3-9615-943CE5D6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B7A-CCCB-4048-AA41-AFFDD187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0B2-6A9D-45AA-8CCA-26B960FA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642-6DEB-422A-B3BC-7D4479B2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811-7101-4C28-AD80-6FDED66C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14A6-643F-4993-8C13-8A852A40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E8C-13BF-4EA5-8674-ED7D3AC6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117-F156-4CFA-B60C-7AAEFF18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D7EF-DF89-4AE1-A0D0-51886DFA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6FFC-CA73-42B5-8BD7-913934174A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42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93840" y="1012680"/>
            <a:ext cx="481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30492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son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Beijing is grea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0" r="0" b="8968"/>
          <a:stretch/>
        </p:blipFill>
        <p:spPr>
          <a:xfrm>
            <a:off x="152280" y="0"/>
            <a:ext cx="899172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19720" y="6094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eiHai Pa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contrast="-6000"/>
          </a:blip>
          <a:srcRect l="0" t="0" r="0" b="4167"/>
          <a:stretch/>
        </p:blipFill>
        <p:spPr>
          <a:xfrm>
            <a:off x="0" y="-452520"/>
            <a:ext cx="10820520" cy="7005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410080" y="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an ’anmen    Squ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2209680"/>
            <a:ext cx="419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1295280"/>
            <a:ext cx="62485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an ’anmen Square in Beiji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an ’anmen  Square is very fam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63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581280" y="30492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lace Muse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1676520"/>
            <a:ext cx="396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18288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22860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152388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alace Museum in Beijing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t is very old and beauti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eijing is grea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4343400" cy="2887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457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-304920" y="0"/>
            <a:ext cx="4724640" cy="3543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29200" y="3809880"/>
            <a:ext cx="38862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eijing is a big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t has shops, restaurant and hot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6094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533520"/>
            <a:ext cx="1904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228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73392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019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Calibri"/>
              </a:rPr>
              <a:t>Let’s chant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76964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do you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like to do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 to the zoo,wanch a kangaro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do you like to 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 to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ho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buy a do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do you like to 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 to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staura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eat a dou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do you like to 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 to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ote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have a r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do you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love to d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Go on a trip, to a 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ere do you want to 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Go on a trip, to Beijing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y do you go to Beij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alibri"/>
              </a:rPr>
              <a:t>It's the capital,and so grea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54709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286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roup Work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组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838080"/>
            <a:ext cx="86104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go on a trip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want to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go t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____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.S.  U.K. Canada, Australi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want to ___and___to c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2240" y="4213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581280"/>
            <a:ext cx="8610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长给出示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一位组员必须用以上三个句子造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长纠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组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alibri"/>
              </a:rPr>
              <a:t>Fill in the blank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052640"/>
            <a:ext cx="8497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LiMing wants to go on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to Beijing. He wants             and            to come, too. Beijing is the                   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 It's a big city. It has ma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nd             . In Beijing,                                     is very famous.                                      is old and                 . Li Ming feels Beijing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! Do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17002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00720" y="2276640"/>
            <a:ext cx="1439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20000" y="2276640"/>
            <a:ext cx="1297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2924280"/>
            <a:ext cx="1298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3502080"/>
            <a:ext cx="129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414972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149720"/>
            <a:ext cx="2449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80000" y="414972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4724280"/>
            <a:ext cx="4249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5302080"/>
            <a:ext cx="446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6597720"/>
            <a:ext cx="115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6160" y="105264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a  tr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8520" y="162864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Dan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92560" y="162864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Jen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80520" y="2276640"/>
            <a:ext cx="245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capital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2760" y="285264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2760" y="3502080"/>
            <a:ext cx="13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sh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08520" y="3502080"/>
            <a:ext cx="255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restaur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80720" y="350208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hot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41440" y="4076640"/>
            <a:ext cx="43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Tian'anmen Squ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55920" y="4724280"/>
            <a:ext cx="44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The Palace Muse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5950080"/>
            <a:ext cx="125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gr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32720" y="1700280"/>
            <a:ext cx="71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78880" y="5300640"/>
            <a:ext cx="212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auti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08720" y="292572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3581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Do exercis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反义词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去旅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d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反义词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城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e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反义词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伟大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p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复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著名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y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复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              have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5780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alibri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828800"/>
            <a:ext cx="8763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宋体"/>
              </a:rPr>
              <a:t>(1)Say and write something about your hometown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(my hometown, an old city, beautiful, shop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restaurants, hotels, parks, squares.....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(2)Listen and rea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46483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ink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想一想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2120" y="2819160"/>
            <a:ext cx="80769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at does Beijing have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838080" y="0"/>
            <a:ext cx="9829440" cy="6840360"/>
            <a:chOff x="-838080" y="0"/>
            <a:chExt cx="9829440" cy="684036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-838080" y="0"/>
              <a:ext cx="9829440" cy="68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508320" y="3743280"/>
              <a:ext cx="3830040" cy="87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ln w="9360">
                    <a:solidFill>
                      <a:srgbClr val="9999ff"/>
                    </a:solidFill>
                    <a:miter/>
                  </a:ln>
                  <a:solidFill>
                    <a:srgbClr val="ff0066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微软雅黑"/>
                </a:rPr>
                <a:t>Tourist Bus</a:t>
              </a:r>
              <a:endParaRPr b="1" i="1" lang="en-US" sz="6000" spc="-1" strike="noStrike">
                <a:ln w="9360">
                  <a:solidFill>
                    <a:srgbClr val="99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微软雅黑"/>
                <a:ea typeface="微软雅黑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838080" y="38088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Let's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go on a trip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to Beij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8124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9200" y="27468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reat W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982080" cy="6689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44956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ater  Cub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9677520" cy="7261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81480" y="53352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rd’s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0" r="0" b="5656"/>
          <a:stretch/>
        </p:blipFill>
        <p:spPr>
          <a:xfrm>
            <a:off x="0" y="115920"/>
            <a:ext cx="8978760" cy="6361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38088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XiangShan Pa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982080" cy="6862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304920" y="510552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eking Unives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6094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380880"/>
            <a:ext cx="446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he Summer Palac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ina</cp:lastModifiedBy>
  <dcterms:modified xsi:type="dcterms:W3CDTF">2018-08-17T04:37:11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